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move the slide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2E007C9-10A5-4641-B79A-2937FA3BB2EB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AD494D-F850-4AC1-94D7-15C9016B85E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9F172F-793F-4C68-82BB-B9698102660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D21848-64DC-4140-971C-06BA57754DE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D4BD-C14B-46E7-9268-89438D9B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CC43-6BC3-4A3D-AB83-512BE9BF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B5EF-E229-479F-A1EC-F4A8AF40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9724-8B88-41D5-A7BF-380A849E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05EA-9986-48CE-973F-FA2C7EA4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FD8E-B66D-4737-B5CC-029B05D1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25C1E-A03D-49FA-B1B9-1D9BB3BD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02EB-E2F6-4382-8CC3-D5537C66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1D53-B190-4D91-B808-3A7F368A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C5AF8-DF41-4468-B53B-B1CABEEA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79A4-D84A-48C5-87E7-7F273A10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4CB2-C92E-4F6D-B7E2-93E64003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C1FF-0E6A-4F85-A9A7-41F508B5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46C1-E998-4713-9260-C840C91E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C30B-19AF-44A4-B3BE-96CE1D82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8574-8B83-4AE0-8A2C-6A8A459E7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CE39-B622-48CC-BB41-ED258406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CD621-3314-4EAA-9F20-9309C982E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10D34-696D-406D-9AF1-B44DD781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F6580-D7C1-4EC6-BD27-FCEAEB33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BEA5D-EF7C-47EB-8DB7-490BD7DC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75EC1-D739-4ADC-A8B3-A44AA3CF2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DAAB-4312-4F7D-A641-FC32A239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4E33D-AAC9-4763-B355-C1096DE9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7B281-6CFE-4DFE-943B-A2DCFF70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C8E0C-F6AA-469F-9EEC-94E45EBAF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21DFF-52F0-477B-ABA0-3574102B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06468-2BE5-47A3-9DF8-A01EB385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1CD12-79AB-4006-9C52-F71FDF96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741AF-1CF4-4260-9B29-D5E1DE39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9AB1-A26D-431C-8FEB-3BFFCD53E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C1AB-93D6-412C-A84A-ABC25BC9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1A93-E5BA-438A-ADDC-58BBF9F7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A39A-AACF-4DA2-B44F-32233C77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1885-7D5B-4DAE-BF35-10C2774D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0785-D0DD-43F6-89FF-E12F31A3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388C55-22E4-4AF6-8D19-7CED42368E4A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EA1E6F-1E59-4EC9-8567-81A054C5C549}" type="slidenum">
              <a:rPr b="0" lang="en-US" sz="10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a6b727"/>
                </a:solidFill>
                <a:latin typeface="Corbe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1D2E84-D277-4F8D-B16A-7C050FE75CFC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1600200"/>
            <a:ext cx="754380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</a:t>
            </a:r>
            <a:r>
              <a:rPr b="1" i="1" lang="es-ES_tradnl" sz="2400" spc="-1" strike="noStrike">
                <a:solidFill>
                  <a:srgbClr val="a6b727"/>
                </a:solidFill>
                <a:latin typeface="Corbel"/>
              </a:rPr>
              <a:t> 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General: 21 %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 algn="just">
              <a:lnSpc>
                <a:spcPct val="2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Tasa del 27 % 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Ventas y prestaciones originadas en la provisión de gas, energía eléctrica y aguas reguladas por medidor, y servicios de  telecomunicaciones, cuand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 </a:t>
            </a: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la venta o prestación se efectúe fuera de domicilios destinados a vivienda, terrenos baldíos o casas de recreo o veraneo, y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600" spc="-1" strike="noStrike">
                <a:solidFill>
                  <a:srgbClr val="a6b727"/>
                </a:solidFill>
                <a:latin typeface="Arial"/>
                <a:ea typeface="Arial"/>
              </a:rPr>
              <a:t>el adquirente o prestatario sea Resp. Inscripto, o Monotributista.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Arial"/>
                <a:ea typeface="Arial"/>
              </a:rPr>
              <a:t>El P.E. puede reducir hasta 25% estas alícuotas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5182E9-8C4F-475B-ABFE-4A4374EF7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838080" y="68580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 (cont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Árt. 24.2.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Empresas de servicios públicos con subsid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o asimila a CF por exportación (devolución)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Por compra, fabricación, elaboración o importación definitiva de bs (excepto automotores) y por importación de obras o de servicios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1900" spc="-1" strike="noStrike">
                <a:solidFill>
                  <a:srgbClr val="a6b727"/>
                </a:solidFill>
                <a:latin typeface="Corbel"/>
              </a:rPr>
              <a:t>Límite de la devolución. Comparación IVA operación vs. IVA que correspondería si el subsidio estuviera alcanzado con IVA.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Art. 24.2 de la ley de IVA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Empresas de radiodifusión, editoras y distribuidoras. 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  <a:p>
            <a:pPr marL="159120" indent="-12672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AR" sz="1900" spc="-1" strike="noStrike">
                <a:solidFill>
                  <a:srgbClr val="a6b727"/>
                </a:solidFill>
                <a:latin typeface="Corbel"/>
              </a:rPr>
              <a:t>Cómputo como crédito fiscal de las contribuciones patronales</a:t>
            </a:r>
            <a:endParaRPr b="0" lang="en-US" sz="19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8" name="Marcador de número de diapositiva 3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54FD6-1B8A-4C51-B53F-AACC8E1705F8}" type="slidenum">
              <a:rPr b="0" lang="en-US" sz="1000" spc="-1" strike="noStrike">
                <a:solidFill>
                  <a:srgbClr val="a6b727"/>
                </a:solidFill>
                <a:latin typeface="Corbe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280" y="1628280"/>
            <a:ext cx="76201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2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50560" y="213336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RETEN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General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854 (AFIP) 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Compras de cosas muebles, locaciones y prestaciones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 u="sng">
                <a:solidFill>
                  <a:srgbClr val="a6b727"/>
                </a:solidFill>
                <a:uFillTx/>
                <a:latin typeface="Corbel"/>
              </a:rPr>
              <a:t>Especial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3744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de granos no destinados a la siembra), legumbres seca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3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caña de azúcar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2394 (AFIP)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Operaciones de compraventa algodón en bruto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RG 1105 (AFIP)</a:t>
            </a:r>
            <a:r>
              <a:rPr b="0" lang="es-ES_tradnl" sz="16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(Honorarios profesionales pagados vía judicial)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333360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FA388-EE9B-4931-9C9C-8C57211DB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960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4360" y="220464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- Cont.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Otras Resoluciones Generales y sus modificaciones</a:t>
            </a: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130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DGI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oveedores de servicios públic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575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Facturas tipo “M”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Sist. de tarjetas de crédito y/o compr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363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(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AFIP) 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Compraventa de miel a granel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02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 Instituciones bancari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428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leche fluida sin procesar para ganado bovin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86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de equinos para faen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Symbol" charset="2"/>
              <a:buChar char=""/>
              <a:tabLst>
                <a:tab algn="l" pos="380988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774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Compraventa de lana suci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14F23F-91C6-43A3-8F76-53295738E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467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800" spc="-1" strike="noStrike">
                <a:solidFill>
                  <a:srgbClr val="a6b727"/>
                </a:solidFill>
                <a:latin typeface="Corbel"/>
              </a:rPr>
              <a:t>REGIMENES DE PERCEPCIÓN</a:t>
            </a:r>
            <a:r>
              <a:rPr b="0" lang="es-ES_tradnl" sz="1800" spc="-1" strike="noStrike">
                <a:solidFill>
                  <a:srgbClr val="a6b727"/>
                </a:solidFill>
                <a:latin typeface="Corbel"/>
              </a:rPr>
              <a:t>:</a:t>
            </a:r>
            <a:endParaRPr b="0" lang="en-US" sz="1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Gener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08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de cosas muebles, locaciones y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pres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937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Importacione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126 (AFIP) - 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Ventas a sujetos no categorizados en el IVA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600" spc="-1" strike="noStrike">
                <a:solidFill>
                  <a:srgbClr val="a6b727"/>
                </a:solidFill>
                <a:latin typeface="Corbel"/>
              </a:rPr>
              <a:t>Especiales:</a:t>
            </a: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3873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–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Producción y comercialización de haciendas y carnes bovinas y bubalina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820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 </a:t>
            </a: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-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Ventas de gas licua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1603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- Compraventa cheques de pago diferido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"/>
              <a:tabLst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1400" spc="-1" strike="noStrike">
                <a:solidFill>
                  <a:srgbClr val="a6b727"/>
                </a:solidFill>
                <a:latin typeface="Corbel"/>
              </a:rPr>
              <a:t>RG 2459 (AFIP)</a:t>
            </a:r>
            <a:r>
              <a:rPr b="0" lang="es-ES_tradnl" sz="1400" spc="-1" strike="noStrike">
                <a:solidFill>
                  <a:srgbClr val="a6b727"/>
                </a:solidFill>
                <a:latin typeface="Corbel"/>
              </a:rPr>
              <a:t> – Operaciones de canje de granos.</a:t>
            </a:r>
            <a:endParaRPr b="0" lang="en-US" sz="1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E810A-D511-4003-8BA3-D179B73E6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1600200"/>
            <a:ext cx="769644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2666520"/>
            <a:ext cx="7846920" cy="39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G 2226 AFIP. Requisitos a la fecha de la present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Saldo a favor de libre disponibilidad en la DDJJ del período inmediato anterior al momento de la solicitud, equivalente como mínimo al 20% del promedio del impuesto determinado en las ddjj del IVA que se mencionan en el punto 2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IVA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s DDJJ SUSS por los 12 meses vencidos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Presentada última DDJJ Ganancias, IGMP y Bs. Personales vencida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No registrar deuda líquida y exigible por las obligaciones de los puntos 2) y 4)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2" marL="492120" indent="-15912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Corbel"/>
              <a:buAutoNum type="arabicParenR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100" spc="-1" strike="noStrike">
                <a:solidFill>
                  <a:srgbClr val="a6b727"/>
                </a:solidFill>
                <a:latin typeface="Corbel"/>
              </a:rPr>
              <a:t>Caída del Certificado.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6B2062-158F-4F19-BA3B-7905380D1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76212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3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Momento para la present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En cualquier mes calendari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novación: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n una antelación máxima de 30 días corridos a la finalización de la vigencia del beneficio anteriormente otorgado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Forma de tramitac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600120" indent="-14292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 través de la página web de la AFIP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4AD3BF-DCF8-4FFF-8EC5-703BD3EDA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99840"/>
            <a:ext cx="7543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GIMENES DE RETENCIÓN Y PERCEPCIÓN - Mecanismo de exclusión – Cont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762120" y="2209680"/>
            <a:ext cx="7842240" cy="42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4160" indent="-130680">
              <a:lnSpc>
                <a:spcPct val="2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olución de la solicitud – Procedimiento automático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300" spc="-1" strike="noStrike">
                <a:solidFill>
                  <a:srgbClr val="a6b727"/>
                </a:solidFill>
                <a:latin typeface="Corbel"/>
              </a:rPr>
              <a:t> </a:t>
            </a: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Dentro de los 15 días corridos contados desde la interposición de la solicitud o la presentación de la documentación requerida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Publicación: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En la página web de la AFIP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  <a:p>
            <a:pPr marL="164160" indent="-13068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Características de la exclusión: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576000" indent="-13716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300" spc="-1" strike="noStrike">
                <a:solidFill>
                  <a:srgbClr val="a6b727"/>
                </a:solidFill>
                <a:latin typeface="Corbel"/>
              </a:rPr>
              <a:t>Se otorga por períodos mensuales completos. Vigencia máxima: 6 meses contados desde el primer día del mes inmediato siguiente a aquél en el cual fue resuelta favorablemente la solicitud.</a:t>
            </a:r>
            <a:endParaRPr b="0" lang="en-US" sz="23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3B6010-0F60-4CBC-890A-FF476AEB1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066680" y="32004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Casos especiales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Inicio de activi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Reorganización de sociedade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Modificación de la situación tributaria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Adquisición de equipamientos, reequipamiento o inversión en nuevos proyectos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4E798E-CC33-40C6-97A4-8AF684F8D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762120" y="2057400"/>
            <a:ext cx="73152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rbel"/>
              </a:rPr>
              <a:t>REGIMENES DE RETENCIÓN Y PERCEPCIÓN - Mecanismo de exclusió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899640" y="1988640"/>
            <a:ext cx="7488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 u="sng">
                <a:solidFill>
                  <a:srgbClr val="a6b727"/>
                </a:solidFill>
                <a:uFillTx/>
                <a:latin typeface="Corbel"/>
              </a:rPr>
              <a:t>Bibliografía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24/1996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trucción de viviendas 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6/1999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apitalización de hacienda y servicios de pastaje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73/1999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Nivelación de suelo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4/2000 (DAT)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: Construcción de hotel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9/2002 (DAL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Consignatarios de hacienda. Comisiones y flet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11/2003 (DAT): 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Plantin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ctamen 52/2003 (DAT):</a:t>
            </a:r>
            <a:r>
              <a:rPr b="0" lang="es-ES_tradnl" sz="2000" spc="-1" strike="noStrike">
                <a:solidFill>
                  <a:srgbClr val="a6b727"/>
                </a:solidFill>
                <a:latin typeface="Corbel"/>
              </a:rPr>
              <a:t> Fletes e intereses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D3BC6D-1A6A-41FB-825F-7F0C295B8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Rectangle 1028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DDDB3-221D-4C32-B41A-31E8F55D1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78/2005 (DAT): Construcción de viviendas. Movimiento de suelos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9/2007 (DAT): Agropecuario. Análisis de humedad y fertilidad del suelo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21/2009 (DAT): Carpintería metálica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Dictamen 48/2004 (DAT), modificado por el Dictamen 18/2012 (DAT): Intereses por financiación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allo Corte, Rectificaciones Rivadavia, 2011: Compensación Imp. Bs. Personales Resp. Sustituto. A favor. Posterior prohibición de la RG (AFIP) n° 3175 (CNACAF “Cresud”4.10.18 e “IRSA” 8.8.2018)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APLICABLES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8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 reducida del 10,5 %</a:t>
            </a:r>
            <a:r>
              <a:rPr b="1" lang="es-ES_tradnl" sz="2100" spc="-1" strike="noStrike">
                <a:solidFill>
                  <a:srgbClr val="a6b727"/>
                </a:solidFill>
                <a:latin typeface="Corbel"/>
              </a:rPr>
              <a:t> :</a:t>
            </a:r>
            <a:endParaRPr b="0" lang="en-US" sz="21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Animales vivos de ganado bovino, ovino, porcino, aviar y cunícula, camélidos y caprinos;  carnes y despojos comestibles de dichos animales, frutas, legumbres y hortalizas, miel a granel, granos y legumbres secas, cuero bovino, harina de trigo, pan, galletas y otros productos de panadería y/o pastelería sin envasar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Ciertas locaciones de obra o de servicios vinculados con la obtención de algunos de los bienes citados precedentemente (labores culturales, siembra, plantación, cosecha, aplicación de agroquímicos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Wingdings" charset="2"/>
              <a:buChar char="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es-ES_tradnl" sz="2200" spc="-1" strike="noStrike">
                <a:solidFill>
                  <a:srgbClr val="a6b727"/>
                </a:solidFill>
                <a:latin typeface="Corbel"/>
              </a:rPr>
              <a:t>Trabajos realizados en inmuebles propios o de terceros, destinados a vivienda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8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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E594C-5C20-46A1-BD1D-4FA561B93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55DB1-72BA-4AE0-8792-B965D48C1C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928800" y="2071800"/>
            <a:ext cx="7488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800" spc="-1" strike="noStrike" u="sng">
                <a:solidFill>
                  <a:srgbClr val="a6b727"/>
                </a:solidFill>
                <a:uFillTx/>
                <a:latin typeface="Times New Roman"/>
              </a:rPr>
              <a:t>Bibliografía (Cont.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FM Comercial, CSJN 14/06/2001. La CSJN convalidad la transferencia prevista en la LIVA ante la falta de reglamentación de la AFIP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a6b727"/>
                </a:solidFill>
                <a:latin typeface="Times New Roman"/>
              </a:rPr>
              <a:t>Bufete Industrial Argentina. CSJN 6.3.2014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609480" y="8380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413000"/>
            <a:ext cx="7848360" cy="720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ASAS (Continuación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228564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6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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F4FA7-F399-452A-9A43-6DB3BC47F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00040" y="2214720"/>
            <a:ext cx="82803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a6b727"/>
              </a:buClr>
              <a:buFont typeface="Monotype Sort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Times New Roman"/>
              </a:rPr>
              <a:t>Tasa reducida 10,5 %  -  cont.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Intereses y comisiones bancarias locales o del exterior que cumplan Std. Basilea, cuando el tomador revista la condición de Responsable Inscripto en el IV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Transporte de pasajeros no alcanzado por la exención art. 7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Asistencia médica y paramédica que brinden o contraten las cooperativas, mutuales y empresas medicina prepag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Bienes de capital (incluidos en Anexo art. 28 inc. e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 bienes (incluidos en Anexo art. 28 inc. f) Ley IVA)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Venta diarios, revistas, publicaciones periódicas. La producción editorial (según facturación) puede tener alícuotas del 5 % o 2,5%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Fertilizantes químicos para uso agrícola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 lvl="1" marL="669960" indent="-212760">
              <a:lnSpc>
                <a:spcPct val="100000"/>
              </a:lnSpc>
              <a:spcBef>
                <a:spcPts val="524"/>
              </a:spcBef>
              <a:buClr>
                <a:srgbClr val="a6b727"/>
              </a:buClr>
              <a:buFont typeface="Monotype Sorts" charset="2"/>
              <a:buChar char="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s-ES_tradnl" sz="2100" spc="-1" strike="noStrike">
                <a:solidFill>
                  <a:srgbClr val="a6b727"/>
                </a:solidFill>
                <a:latin typeface="Times New Roman"/>
              </a:rPr>
              <a:t>Otros.</a:t>
            </a: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1523880"/>
            <a:ext cx="7696440" cy="6098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761760" y="2438280"/>
            <a:ext cx="7543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Saldos a favor en el IVA: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017BE2-C9D2-4D9B-BC6F-B362B1041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609480" y="3143160"/>
          <a:ext cx="7162920" cy="347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143160"/>
                    <a:ext cx="71629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Rectangle 5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467840" cy="45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000" spc="-1" strike="noStrike">
                <a:solidFill>
                  <a:srgbClr val="a6b727"/>
                </a:solidFill>
                <a:latin typeface="Corbel"/>
              </a:rPr>
              <a:t>Disponibilidad de los saldos:</a:t>
            </a: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Saldo                           </a:t>
            </a:r>
            <a:r>
              <a:rPr b="1" lang="es-ES_tradnl" sz="28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800" spc="-1" strike="noStrike" u="sng">
                <a:solidFill>
                  <a:srgbClr val="a6b727"/>
                </a:solidFill>
                <a:uFillTx/>
                <a:latin typeface="Corbel"/>
              </a:rPr>
              <a:t>Disponibilidad</a:t>
            </a:r>
            <a:endParaRPr b="0" lang="en-US" sz="2800" spc="-1" strike="noStrike">
              <a:solidFill>
                <a:srgbClr val="a6b727"/>
              </a:solidFill>
              <a:latin typeface="Corbel"/>
            </a:endParaRPr>
          </a:p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Técnico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Restringida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 disponibilidad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Exportaciones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Libre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8DCF3-5EEA-443D-BDB0-20DB1B53A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2819520" y="48769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Line 5"/>
          <p:cNvSpPr/>
          <p:nvPr/>
        </p:nvSpPr>
        <p:spPr>
          <a:xfrm>
            <a:off x="4114800" y="5334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9" name="Line 6"/>
          <p:cNvSpPr/>
          <p:nvPr/>
        </p:nvSpPr>
        <p:spPr>
          <a:xfrm>
            <a:off x="3505320" y="5791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752480"/>
            <a:ext cx="7467480" cy="533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- UTILIZACION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14040" y="2819160"/>
            <a:ext cx="7467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29600">
              <a:lnSpc>
                <a:spcPct val="7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Destino de los saldos de libre disponibilidad: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Compensación o acreditación  (RG AFIP Nº 1658). 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(efecto desde presentación o subsanación, suspensión 45 días, control sistémico, sujeto a verificación conf. art. 16 LPT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Devolución (RG DGI Nº 2224).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300" spc="-1" strike="noStrike">
                <a:solidFill>
                  <a:srgbClr val="a6b727"/>
                </a:solidFill>
                <a:latin typeface="Corbel"/>
              </a:rPr>
              <a:t>(</a:t>
            </a: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efecto desde la presentación o subsanación, suspensión 45 días, no existencia de deuda líquida o exigible que puede ser compensada previamente, no es repetición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400" spc="-1" strike="noStrike">
                <a:solidFill>
                  <a:srgbClr val="a6b727"/>
                </a:solidFill>
                <a:latin typeface="Corbel"/>
              </a:rPr>
              <a:t>Transferencia (RG AFIP Nº 1466). 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1500" spc="-1" strike="noStrike">
                <a:solidFill>
                  <a:srgbClr val="a6b727"/>
                </a:solidFill>
                <a:latin typeface="Corbel"/>
              </a:rPr>
              <a:t>Requisitos: a) existencia y legitimidad; b) no registro de deudas líquidas y exigibles; c) detracción del SAF en la última DDJJ IVA. Intereses desde la presentación o subsanación hasta la notificación de habilitación de la transferencia. Acto administrativo. Apelación. Responsabilidad solidaria (alcance). Normas transitorias (retroactividad, inconstitucionalidad Fallo CSJN Saiz).</a:t>
            </a: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  <a:p>
            <a:pPr lvl="1" marL="325800" indent="-129960">
              <a:lnSpc>
                <a:spcPct val="7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428616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5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3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4268DD-5926-46DF-ABA3-092151244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600" spc="-1" strike="noStrike">
                <a:solidFill>
                  <a:srgbClr val="a6b727"/>
                </a:solidFill>
                <a:latin typeface="Corbel"/>
              </a:rPr>
              <a:t>Saldos Técnicos.  Otras situaciones especiales que permiten la disponibilidad del saldo:</a:t>
            </a: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	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bienes de capital alcanzados con alícuota reducida de IVA (10,5%) (RG AFIP Nº 1168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buClr>
                <a:srgbClr val="a6b727"/>
              </a:buClr>
              <a:buSzPct val="80000"/>
              <a:buFont typeface="Monotype Sorts" charset="2"/>
              <a:buChar char="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_tradnl" sz="2600" spc="-1" strike="noStrike">
                <a:solidFill>
                  <a:srgbClr val="a6b727"/>
                </a:solidFill>
                <a:latin typeface="Corbel"/>
              </a:rPr>
              <a:t>Fabricantes o importadores de fertilizantes químicos para uso agrícola (10,5%) (RG AFIP Nº 2125).</a:t>
            </a: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EC7FD3-B08A-4FF8-A42A-B67C76685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447920"/>
            <a:ext cx="75438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_tradnl" sz="2400" spc="-1" strike="noStrike">
                <a:solidFill>
                  <a:srgbClr val="a6b727"/>
                </a:solidFill>
                <a:latin typeface="Corbel"/>
              </a:rPr>
              <a:t>SALDOS A FAVOR (Cont.)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4000" y="227628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ARTICULO 8º — Responsables en forma personal y solidaria con los deudores del tributo. Responden con sus bienes propios y solidariamente con los deudores del tributo y, si los hubiere, con otros responsables del mismo gravamen, sin perjuicio de las sanciones correspondientes a las infracciones cometidas: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marL="609480" indent="-609480" algn="just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Monotype Sort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000" spc="-1" strike="noStrike">
                <a:solidFill>
                  <a:srgbClr val="a6b727"/>
                </a:solidFill>
                <a:latin typeface="Corbel"/>
              </a:rPr>
              <a:t>g) Los cedentes de créditos tributarios respecto de la deuda tributaria de sus cesionarios y hasta la concurrencia del importe aplicado a su cancelación, si se impugnara la existencia o legitimidad de tales créditos y los deudores no regularizan su situación fiscal dentro de los quince (15) días de la intimación administrativa de pago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5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  <a:p>
            <a:pPr lvl="1" marL="1295280" indent="-533160">
              <a:lnSpc>
                <a:spcPct val="9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1" name="5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72A520-11A4-4F09-A74D-C46E94A3F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75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s-ES" sz="2400" spc="-1" strike="noStrike">
                <a:solidFill>
                  <a:srgbClr val="a6b727"/>
                </a:solidFill>
                <a:latin typeface="Corbel"/>
              </a:rPr>
              <a:t>NUEVO RÉGIMEN ESPECIAL DE DEVOLUCION DE DETERMINADOS CREDITOS FISCALES</a:t>
            </a:r>
            <a:endParaRPr b="0" lang="en-US" sz="24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11280" y="2421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Art. incorporado a continuación del artículo 24 de la ley del IVA, por la Reforma Tributaria Ley 27430 (B.O. 29/12/2017)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Créditos Fiscales originados en compra, construcción, fabricación, elaboración o importación definitiva de bienes de uso, excepto automóviles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Que hayan generado 6 meses consecutivos de saldos a favor técnico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s-ES" sz="2200" spc="-1" strike="noStrike">
                <a:solidFill>
                  <a:srgbClr val="a6b727"/>
                </a:solidFill>
                <a:latin typeface="Corbel"/>
              </a:rPr>
              <a:t>La devolución realizada por la AFIP, no deberá ser devuelta por el contribuyente, siempre y cuando hubiera generado débitos fiscales superiores a los créditos fiscales, en los siguientes 60 meses posteriores a la devolución.</a:t>
            </a: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  <a:p>
            <a:pPr marL="160920" indent="-12816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2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5" name="3 Marcador de número de diapositiva"/>
          <p:cNvSpPr/>
          <p:nvPr/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2A26B-7496-495A-BDAE-3A688A9CA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609480" y="609480"/>
            <a:ext cx="7631280" cy="731880"/>
          </a:xfrm>
          <a:prstGeom prst="rect">
            <a:avLst/>
          </a:prstGeom>
          <a:noFill/>
          <a:ln w="11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es-ES" sz="2400" spc="-1" strike="noStrike">
                <a:solidFill>
                  <a:srgbClr val="565349"/>
                </a:solidFill>
                <a:latin typeface="Times New Roman"/>
              </a:rPr>
              <a:t>IMPUESTO AL VALOR AGREGADO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7T10:01:21Z</dcterms:created>
  <dc:creator>Claudio Hernandez</dc:creator>
  <dc:description/>
  <dc:language>en-US</dc:language>
  <cp:lastModifiedBy>MARIA INES GIMENEZ ELISSAMBURU</cp:lastModifiedBy>
  <cp:lastPrinted>2007-05-07T21:52:32Z</cp:lastPrinted>
  <dcterms:modified xsi:type="dcterms:W3CDTF">2024-05-15T02:05:27Z</dcterms:modified>
  <cp:revision>209</cp:revision>
  <dc:subject/>
  <dc:title>SOCIEDADES DE PROFESIONALES  PLANTEO DE LA CUES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ppReportCurrencySymbol">
    <vt:lpwstr>$</vt:lpwstr>
  </property>
  <property fmtid="{D5CDD505-2E9C-101B-9397-08002B2CF9AE}" pid="3" name="WppReportDashboardTitleText">
    <vt:lpwstr>Dashboard</vt:lpwstr>
  </property>
  <property fmtid="{D5CDD505-2E9C-101B-9397-08002B2CF9AE}" pid="4" name="WppReportDate">
    <vt:lpwstr/>
  </property>
  <property fmtid="{D5CDD505-2E9C-101B-9397-08002B2CF9AE}" pid="5" name="WppReportDraft">
    <vt:lpwstr>(Draft)</vt:lpwstr>
  </property>
  <property fmtid="{D5CDD505-2E9C-101B-9397-08002B2CF9AE}" pid="6" name="WppReportIsTocUpdateRecommended">
    <vt:bool>1</vt:bool>
  </property>
  <property fmtid="{D5CDD505-2E9C-101B-9397-08002B2CF9AE}" pid="7" name="WppReportLongPageNumberFormat">
    <vt:lpwstr>Page &lt;#&gt; of &lt;PageCount&gt;</vt:lpwstr>
  </property>
  <property fmtid="{D5CDD505-2E9C-101B-9397-08002B2CF9AE}" pid="8" name="WppReportPropertiesLastWrittenToDocument">
    <vt:filetime>2024-02-28T20:57:54Z</vt:filetime>
  </property>
  <property fmtid="{D5CDD505-2E9C-101B-9397-08002B2CF9AE}" pid="9" name="WppReportShortPageNumberFormat">
    <vt:lpwstr>Page &lt;#&gt;</vt:lpwstr>
  </property>
  <property fmtid="{D5CDD505-2E9C-101B-9397-08002B2CF9AE}" pid="10" name="WppReportTocTitleText">
    <vt:lpwstr>Table of contents</vt:lpwstr>
  </property>
  <property fmtid="{D5CDD505-2E9C-101B-9397-08002B2CF9AE}" pid="11" name="WppReportVersion">
    <vt:lpwstr>Version 1.0</vt:lpwstr>
  </property>
</Properties>
</file>